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D2B-F5DB-47C1-BAA0-4D367836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C26-919B-4B37-8F37-CA13E707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4E4-2CDA-4362-9E1E-2AB32EDF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B05-FD05-4B2B-8E78-B9B2F414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670-CC91-4ED6-A573-2D5F2CE0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CEF-5C91-43FB-8CC5-9C621264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303-3105-4560-A2B7-173689CC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C1A-9BD3-4B45-867A-C1E09BC2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4C3-DAD0-43FB-B696-201BB41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2B2-C6D9-428C-96BA-7CC79E0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C17-6257-4679-A240-17DF6953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8C6-DE38-49C7-82B9-76890644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5CEF-A875-41BA-A04A-473658B78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cky.wav" TargetMode="External"/><Relationship Id="rId3" Type="http://schemas.microsoft.com/office/2007/relationships/media" Target="file:///tmp/home/.config/libreoffice/4/user/gallery/ecky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video" Target="file:///tmp/home/.config/libreoffice/4/user/gallery/Recorded%20Sound" TargetMode="External"/><Relationship Id="rId7" Type="http://schemas.microsoft.com/office/2007/relationships/media" Target="file:///tmp/home/.config/libreoffice/4/user/gallery/Recorded%20Sound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267080" y="1981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838080"/>
            <a:ext cx="7467480" cy="2589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ez, Vien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itre 5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Passé Compos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914400" y="5638680"/>
            <a:ext cx="1828800" cy="5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4864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0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309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8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how to AVO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, elle ,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, 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0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52800" y="1676520"/>
            <a:ext cx="342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, elle , 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v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, elles 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1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how to ÊT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, elle ,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, 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52800" y="1676520"/>
            <a:ext cx="342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, elle , on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so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ê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, elles s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0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ÊTRE  with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ler, arriver, to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52440" y="1676520"/>
            <a:ext cx="487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uis al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es arri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est tomb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sommes al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êtes ar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sont tomb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écouté- I lis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a  fini- He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as répondu? -Did you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vons fait les devoirs- We did the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ons that are done, complete,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3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al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sommes arriv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s sont tomb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0773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98108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st tense in French- the passé composé- is composed of 2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st verb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jugated form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VOIR &amp; a participe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96252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J’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i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assé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une journée épouvan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 pr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rendu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les exam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0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95280" y="1295280"/>
          <a:ext cx="6400800" cy="17254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, 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,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09480" y="32004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e 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8120" y="4267080"/>
          <a:ext cx="2971800" cy="155268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4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es Passé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rreg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209680"/>
          <a:ext cx="8229600" cy="3017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ç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é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1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es Passé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rreg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2209680"/>
          <a:ext cx="8229600" cy="3017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ç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é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9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with 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1337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ertain verbs, the passé composé is form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jugated form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être &amp; participe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je suis al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4114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4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with 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13372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ertain verbs, the passé composé is form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jugated form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être &amp; participe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e suis all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us sommes a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u es all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us êtes a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 est all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s sont a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le est allé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les sont all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4114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4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with êt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e passé agrees with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13372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l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rrive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o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9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with êt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e passé agrees with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être is used to form the passé composé, the participe passé becomes like an adjective and has to agree with the subject in gender &amp; number. This doesn’t happen when avoir is used to form the passé compos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t arriv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mmes arriv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e a parlé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s avons v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5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20:47:55Z</dcterms:created>
  <dc:creator>Phyllis</dc:creator>
  <dc:description/>
  <dc:language>en-US</dc:language>
  <cp:lastModifiedBy>Administrator</cp:lastModifiedBy>
  <dcterms:modified xsi:type="dcterms:W3CDTF">2011-01-31T17:36:54Z</dcterms:modified>
  <cp:revision>15</cp:revision>
  <dc:subject/>
  <dc:title>Slide 1</dc:title>
</cp:coreProperties>
</file>